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CCE-5565-4190-83A1-214C3DDED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1855-E7CD-4979-825C-CB0F822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6D34-BC82-4920-816C-0DADEC4D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823-F4A6-455E-9BD5-456C9A97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8463-C0DA-438C-8035-4207E06A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0C7F-A944-4AE7-BF0C-D25BB1C4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6A59-4D2B-4808-9610-7ACC5C1E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0756-202D-4E9C-9E87-D74592A7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DDBF-5EA7-441E-888C-2744ECDE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0D9C-480C-41B2-A6C7-B80CB219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7DD49-8956-4CFC-9E4F-CD065182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2F8-FDB9-46CB-9EAD-665BF5BE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1F70-F491-4E94-BF01-12F280BD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94EC-9D4B-485A-979A-E37A103C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A767-BB28-48D8-8CBB-FF39D6D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C1D8-27FD-49E6-8FEF-4D524BC0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942D-FB87-41A3-9E7A-4637C341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497-A4CD-4A6E-B14C-D969B4ED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317-8581-4684-B565-80CF0D4E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2B6D-C3A7-4D65-B2AB-45B02AB1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B0E-995F-4A4E-A461-2A428F86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01B-1C6B-4162-8E52-33E7FF7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0D0-B083-4DBD-9202-5E913AD0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B03-1699-457A-AEE1-A073DF38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FAF9-8412-4EAF-B59D-8479ECB4EF6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E9F6-729F-4E0A-A8E0-76580502FE0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ur Goal for Today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flect on Reading, Discussion and Our Work From this Semes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Unit Rationa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you cre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it is exemplary of good teaching and learning according to Wiggins &amp; McTighe and Wilhel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 of Six Traits of Understanding: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planation, Application, Interpretation, Self-Knowled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slow’s “Four Stages of Learning”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onscious Incompet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Incompet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nscious Compet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conscious Compet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visiting the Opinionai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We Think Now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fter reading, discussing, experimenting, how has our thinking changed or been refined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hat the Experts Would S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flecting on reading experie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-connecting to Essential Question(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literature, great for talking about them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ur Goals for Today: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ot Topic #1: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ssessment and Covering Curriculu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ssess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Ranking Activity—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ssessme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4:46:22Z</dcterms:created>
  <dc:creator>BSD</dc:creator>
  <dc:description/>
  <dc:language>en-US</dc:language>
  <cp:lastModifiedBy>BSD</cp:lastModifiedBy>
  <dcterms:modified xsi:type="dcterms:W3CDTF">2011-04-26T21:04:41Z</dcterms:modified>
  <cp:revision>3</cp:revision>
  <dc:subject/>
  <dc:title>Our Goal for Today:</dc:title>
</cp:coreProperties>
</file>